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type.wav" ContentType="audio/x-wav"/>
  <Override PartName="/ppt/media/whoosh.wav" ContentType="audio/x-wav"/>
  <Override PartName="/ppt/media/applaus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907588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762120" indent="-38124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300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523880" indent="-1904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905120" indent="-190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1904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5" marL="228600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6" marL="2286000" indent="-190440"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whoosh.wav"/><Relationship Id="rId4" Type="http://schemas.openxmlformats.org/officeDocument/2006/relationships/audio" Target="../media/typ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" name=""/>
          <p:cNvGrpSpPr/>
          <p:nvPr/>
        </p:nvGrpSpPr>
        <p:grpSpPr>
          <a:xfrm>
            <a:off x="457200" y="2590920"/>
            <a:ext cx="6194520" cy="6705000"/>
            <a:chOff x="457200" y="2590920"/>
            <a:chExt cx="6194520" cy="6705000"/>
          </a:xfrm>
        </p:grpSpPr>
        <p:sp>
          <p:nvSpPr>
            <p:cNvPr id="39" name=""/>
            <p:cNvSpPr/>
            <p:nvPr/>
          </p:nvSpPr>
          <p:spPr>
            <a:xfrm>
              <a:off x="550800" y="2832840"/>
              <a:ext cx="610092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1. Continúe esta secuencia lógica:                    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  25 Punt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50800" y="4505400"/>
              <a:ext cx="587232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2. Corrija esta fórmula colocando sólo un trazo:            25 Punto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518400" y="6190200"/>
              <a:ext cx="58575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3. Por favor, escriba cualquier cosa:                                  25 Punt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21280" y="7785720"/>
              <a:ext cx="57693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000000"/>
                  </a:solidFill>
                  <a:latin typeface="Arial"/>
                </a:rPr>
                <a:t>4. Dibuje un rectángulo con tres líneas:                           25 Punt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814680" y="3370320"/>
              <a:ext cx="4290840" cy="439200"/>
              <a:chOff x="814680" y="3370320"/>
              <a:chExt cx="4290840" cy="439200"/>
            </a:xfrm>
          </p:grpSpPr>
          <p:sp>
            <p:nvSpPr>
              <p:cNvPr id="44" name=""/>
              <p:cNvSpPr/>
              <p:nvPr/>
            </p:nvSpPr>
            <p:spPr>
              <a:xfrm>
                <a:off x="814680" y="3370320"/>
                <a:ext cx="2155680" cy="423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9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DE" sz="2400" spc="-1" strike="noStrike">
                    <a:solidFill>
                      <a:srgbClr val="000000"/>
                    </a:solidFill>
                    <a:latin typeface="Arial"/>
                  </a:rPr>
                  <a:t>L     M     M    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79480" y="38095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1531800" y="38095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2185920" y="38095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2840040" y="38095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4146480" y="38095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4800600" y="38095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3492360" y="3809520"/>
                <a:ext cx="30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2" name=""/>
            <p:cNvSpPr/>
            <p:nvPr/>
          </p:nvSpPr>
          <p:spPr>
            <a:xfrm>
              <a:off x="812160" y="5144040"/>
              <a:ext cx="383688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5    </a:t>
              </a:r>
              <a:r>
                <a:rPr b="0" lang="de-DE" sz="2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    5    </a:t>
              </a:r>
              <a:r>
                <a:rPr b="0" lang="de-DE" sz="2800" spc="-1" strike="noStrike">
                  <a:solidFill>
                    <a:srgbClr val="ffffff"/>
                  </a:solidFill>
                  <a:latin typeface="Arial"/>
                </a:rPr>
                <a:t>+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    5    =    5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952560" y="6895440"/>
              <a:ext cx="4724280" cy="387000"/>
              <a:chOff x="952560" y="6895440"/>
              <a:chExt cx="4724280" cy="387000"/>
            </a:xfrm>
          </p:grpSpPr>
          <p:sp>
            <p:nvSpPr>
              <p:cNvPr id="54" name=""/>
              <p:cNvSpPr/>
              <p:nvPr/>
            </p:nvSpPr>
            <p:spPr>
              <a:xfrm>
                <a:off x="952560" y="7276320"/>
                <a:ext cx="47242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flipV="1">
                <a:off x="952560" y="6895440"/>
                <a:ext cx="0" cy="3805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V="1">
                <a:off x="5676840" y="6901560"/>
                <a:ext cx="0" cy="380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457200" y="2590920"/>
              <a:ext cx="5867280" cy="167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57200" y="4267080"/>
              <a:ext cx="5867280" cy="16758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7200" y="5943240"/>
              <a:ext cx="5867280" cy="167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57200" y="7619760"/>
              <a:ext cx="5867280" cy="16761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62880" y="325440"/>
            <a:ext cx="2644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Ministerio de 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studio sobre la Intelig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2057400" y="1143000"/>
            <a:ext cx="2897280" cy="855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86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Nivel 2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81840" y="1676160"/>
            <a:ext cx="196092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iempo: 1 Min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5141160"/>
            <a:ext cx="447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71680" y="5141160"/>
            <a:ext cx="447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23880" y="2133720"/>
            <a:ext cx="419112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ff0000"/>
                </a:solidFill>
                <a:latin typeface="Arial"/>
              </a:rPr>
              <a:t>Escriba las respuestas en una hoja en blanc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04920" y="937080"/>
            <a:ext cx="6095880" cy="36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¡AÚN TIENE TIEMP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Por favor, no vea las respues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No mire el test del compañe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Usted lo puede conseguir.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s soluciones son fáciles, vuelva atrás e intente hacerlo to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71680" y="5257080"/>
            <a:ext cx="175824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er las respue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" action="ppaction://hlinkshowjump?jump=previousslide"/>
          </p:cNvPr>
          <p:cNvSpPr/>
          <p:nvPr/>
        </p:nvSpPr>
        <p:spPr>
          <a:xfrm>
            <a:off x="1828800" y="5562720"/>
            <a:ext cx="457200" cy="380880"/>
          </a:xfrm>
          <a:custGeom>
            <a:avLst/>
            <a:gdLst>
              <a:gd name="textAreaLeft" fmla="*/ 56880 w 457200"/>
              <a:gd name="textAreaRight" fmla="*/ 400320 w 457200"/>
              <a:gd name="textAreaTop" fmla="*/ 56880 h 380880"/>
              <a:gd name="textAreaBottom" fmla="*/ 3240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2684" y="3240"/>
                </a:lnTo>
                <a:lnTo>
                  <a:pt x="3240" y="324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2684" y="18360"/>
                </a:lnTo>
                <a:lnTo>
                  <a:pt x="22684" y="324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3240" y="18360"/>
                </a:lnTo>
                <a:lnTo>
                  <a:pt x="22684" y="1836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3240" y="3240"/>
                </a:lnTo>
                <a:lnTo>
                  <a:pt x="3240" y="18360"/>
                </a:lnTo>
                <a:close/>
              </a:path>
              <a:path fill="darken" w="25924" h="21600">
                <a:moveTo>
                  <a:pt x="7327" y="10800"/>
                </a:moveTo>
                <a:lnTo>
                  <a:pt x="18597" y="5165"/>
                </a:lnTo>
                <a:lnTo>
                  <a:pt x="18597" y="16435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444680" y="5257080"/>
            <a:ext cx="120348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Volver atrá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nextslide"/>
          </p:cNvPr>
          <p:cNvSpPr/>
          <p:nvPr/>
        </p:nvSpPr>
        <p:spPr>
          <a:xfrm flipH="1">
            <a:off x="3962520" y="5562720"/>
            <a:ext cx="457200" cy="380880"/>
          </a:xfrm>
          <a:custGeom>
            <a:avLst/>
            <a:gdLst>
              <a:gd name="textAreaLeft" fmla="*/ 56880 w 457200"/>
              <a:gd name="textAreaRight" fmla="*/ 400320 w 457200"/>
              <a:gd name="textAreaTop" fmla="*/ 56880 h 380880"/>
              <a:gd name="textAreaBottom" fmla="*/ 3240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2684" y="3240"/>
                </a:lnTo>
                <a:lnTo>
                  <a:pt x="3240" y="324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2684" y="18360"/>
                </a:lnTo>
                <a:lnTo>
                  <a:pt x="22684" y="324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3240" y="18360"/>
                </a:lnTo>
                <a:lnTo>
                  <a:pt x="22684" y="1836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3240" y="3240"/>
                </a:lnTo>
                <a:lnTo>
                  <a:pt x="3240" y="18360"/>
                </a:lnTo>
                <a:close/>
              </a:path>
              <a:path fill="darken" w="25924" h="21600">
                <a:moveTo>
                  <a:pt x="7327" y="10800"/>
                </a:moveTo>
                <a:lnTo>
                  <a:pt x="18597" y="5165"/>
                </a:lnTo>
                <a:lnTo>
                  <a:pt x="18597" y="16435"/>
                </a:lnTo>
                <a:close/>
              </a:path>
            </a:pathLst>
          </a:custGeom>
          <a:solidFill>
            <a:srgbClr val="00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550800" y="2864880"/>
            <a:ext cx="610092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1. Continúe esta secuencia lógica: 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                   25 Pun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537440"/>
            <a:ext cx="615456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2. Corrija esta fórmula colocando sólo un trazo:              25 Pun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18400" y="6222240"/>
            <a:ext cx="58575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3. Por favor, escriba cualquier cosa:                                  25 Pun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20920" y="7817760"/>
            <a:ext cx="5819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4. Dibuje un rectángulo con tres líneas:                            25 Pun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820080" y="3402360"/>
            <a:ext cx="4285440" cy="439200"/>
            <a:chOff x="820080" y="3402360"/>
            <a:chExt cx="4285440" cy="439200"/>
          </a:xfrm>
        </p:grpSpPr>
        <p:sp>
          <p:nvSpPr>
            <p:cNvPr id="77" name=""/>
            <p:cNvSpPr/>
            <p:nvPr/>
          </p:nvSpPr>
          <p:spPr>
            <a:xfrm>
              <a:off x="820080" y="3402360"/>
              <a:ext cx="1707840" cy="4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L</a:t>
              </a: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              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r>
                <a:rPr b="1" lang="de-DE" sz="9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de-DE" sz="24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79480" y="3841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531800" y="3841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2185920" y="3841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40040" y="3841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146480" y="3841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00600" y="3841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492360" y="3841560"/>
              <a:ext cx="30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812160" y="5176080"/>
            <a:ext cx="3836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5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5    </a:t>
            </a: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   5    =    5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52560" y="6927840"/>
            <a:ext cx="4724280" cy="387000"/>
            <a:chOff x="952560" y="6927840"/>
            <a:chExt cx="4724280" cy="387000"/>
          </a:xfrm>
        </p:grpSpPr>
        <p:sp>
          <p:nvSpPr>
            <p:cNvPr id="87" name=""/>
            <p:cNvSpPr/>
            <p:nvPr/>
          </p:nvSpPr>
          <p:spPr>
            <a:xfrm>
              <a:off x="952560" y="7308720"/>
              <a:ext cx="4724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952560" y="6927840"/>
              <a:ext cx="0" cy="380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5676840" y="6933600"/>
              <a:ext cx="0" cy="381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57200" y="2622600"/>
            <a:ext cx="586728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4299120"/>
            <a:ext cx="5867280" cy="1676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5975280"/>
            <a:ext cx="586728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7651800"/>
            <a:ext cx="5867280" cy="1676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086560" y="325440"/>
            <a:ext cx="2644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Ministerio de 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studio sobre la Intelig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057400" y="1219320"/>
            <a:ext cx="2897280" cy="855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38625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Nivel 20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3880" y="1599840"/>
            <a:ext cx="18968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Tempo: 1 Minu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14360" y="5141160"/>
            <a:ext cx="447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71680" y="5141160"/>
            <a:ext cx="44748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14480" y="3427920"/>
            <a:ext cx="2490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J</a:t>
            </a:r>
            <a:r>
              <a:rPr b="1" lang="de-DE" sz="9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V</a:t>
            </a:r>
            <a:r>
              <a:rPr b="1" lang="de-DE" sz="9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1" lang="de-DE" sz="9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1" lang="de-DE" sz="2400" spc="-1" strike="noStrike">
                <a:solidFill>
                  <a:srgbClr val="ff0000"/>
                </a:solidFill>
                <a:latin typeface="Arial"/>
              </a:rPr>
              <a:t>D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62120" y="3942360"/>
            <a:ext cx="457200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900" spc="-1" strike="noStrike">
                <a:solidFill>
                  <a:srgbClr val="ff0000"/>
                </a:solidFill>
                <a:latin typeface="Arial"/>
              </a:rPr>
              <a:t>Lunes          Martes      Miércoles      Jueves         Viernes        Sábado      Doming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449360" y="5302080"/>
            <a:ext cx="1440" cy="108000"/>
          </a:xfrm>
          <a:custGeom>
            <a:avLst/>
            <a:gdLst/>
            <a:ahLst/>
            <a:rect l="l" t="t" r="r" b="b"/>
            <a:pathLst>
              <a:path w="1" h="68">
                <a:moveTo>
                  <a:pt x="1" y="0"/>
                </a:moveTo>
                <a:lnTo>
                  <a:pt x="0" y="68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65320" y="6906960"/>
            <a:ext cx="18252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ff0000"/>
                </a:solidFill>
                <a:latin typeface="Lucida Handwriting"/>
              </a:rPr>
              <a:t>Cualquier  co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2666880" y="8381880"/>
            <a:ext cx="1523520" cy="685800"/>
            <a:chOff x="2666880" y="8381880"/>
            <a:chExt cx="1523520" cy="685800"/>
          </a:xfrm>
        </p:grpSpPr>
        <p:sp>
          <p:nvSpPr>
            <p:cNvPr id="104" name=""/>
            <p:cNvSpPr/>
            <p:nvPr/>
          </p:nvSpPr>
          <p:spPr>
            <a:xfrm>
              <a:off x="2666880" y="8381880"/>
              <a:ext cx="1523520" cy="685800"/>
            </a:xfrm>
            <a:prstGeom prst="rect">
              <a:avLst/>
            </a:prstGeom>
            <a:noFill/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004920" y="8559720"/>
              <a:ext cx="0" cy="2286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67400" y="8597880"/>
              <a:ext cx="0" cy="2286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429000" y="8635680"/>
              <a:ext cx="0" cy="22860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7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75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3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75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25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7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3225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0280" y="1496880"/>
            <a:ext cx="5715000" cy="581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Comic Sans MS"/>
              </a:rPr>
              <a:t>Has suspendido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ff"/>
                </a:solidFill>
                <a:latin typeface="Comic Sans MS"/>
              </a:rPr>
              <a:t>Hazte el loco y no le digas a nadie que has fallado este test tan sencill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ff"/>
                </a:solidFill>
                <a:latin typeface="Comic Sans MS"/>
              </a:rPr>
              <a:t>Ahora puedes comprender porque ocupas el puesto que ocupas y no has ascendido más en la vida </a:t>
            </a:r>
            <a:br>
              <a:rPr sz="3200"/>
            </a:b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3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0T14:22:13Z</dcterms:created>
  <dc:creator>Schimanski</dc:creator>
  <dc:description/>
  <dc:language>en-US</dc:language>
  <cp:lastModifiedBy>fjsantos</cp:lastModifiedBy>
  <cp:lastPrinted>2002-05-03T10:19:09Z</cp:lastPrinted>
  <dcterms:modified xsi:type="dcterms:W3CDTF">2005-02-15T09:47:45Z</dcterms:modified>
  <cp:revision>41</cp:revision>
  <dc:subject/>
  <dc:title>Kein Folientitel</dc:title>
</cp:coreProperties>
</file>